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C2C7-F822-4B77-8FDC-F05FB323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259A-8ECF-45C5-BD6B-E53D6E0E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A52-A3CA-4FC9-B1AE-99CE42B0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0FA7-FFDD-485F-B38D-1816A07B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70C5-37AA-40A7-9EE7-A4A8724C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7979-FC8D-41D4-AD0B-4002AF5A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F4D-06C2-458A-A73B-552D3C72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AC37-EB26-4F0E-9531-5982E783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7316-645B-467B-BF09-68B42DCC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737D-BB54-4FAB-AFB6-5851147D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2964-06C5-4EEB-A125-C39178BE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75D6-9157-450F-96E2-297FB39D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705E-4FFD-4192-9177-E186ACF8F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Строение корн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ганы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54881" t="0" r="1173" b="30297"/>
          <a:stretch/>
        </p:blipFill>
        <p:spPr>
          <a:xfrm>
            <a:off x="2914560" y="1628640"/>
            <a:ext cx="2884680" cy="4175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932360" y="1628640"/>
            <a:ext cx="1438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цве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076720" y="4005360"/>
            <a:ext cx="1724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стеб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58920" y="5373720"/>
            <a:ext cx="1466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коре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476360" y="2565360"/>
            <a:ext cx="961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ли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84360" y="278136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356000" y="1844640"/>
            <a:ext cx="432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3850920" y="4292280"/>
            <a:ext cx="10810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484360" y="5229360"/>
            <a:ext cx="792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ункции кор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10657" b="9986"/>
          <a:stretch/>
        </p:blipFill>
        <p:spPr>
          <a:xfrm>
            <a:off x="6084720" y="3429000"/>
            <a:ext cx="2808360" cy="3024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9280" y="3068640"/>
            <a:ext cx="2664000" cy="3314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987640" y="2205000"/>
            <a:ext cx="2927520" cy="2639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611280" y="2349360"/>
            <a:ext cx="1780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порная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03640" y="1557360"/>
            <a:ext cx="2685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запасающая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27640" y="2349360"/>
            <a:ext cx="2705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питательная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рнев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е корни данного растения образу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орнев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3009"/>
          <a:stretch/>
        </p:blipFill>
        <p:spPr>
          <a:xfrm>
            <a:off x="5219640" y="1341360"/>
            <a:ext cx="3673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корн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орневых системах растений выделяют три типа корн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Главн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азвивается из зародышевого коре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Боков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отходят от главного кор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ридаточ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отходят от стеб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53848" t="22195" r="21153" b="30773"/>
          <a:stretch/>
        </p:blipFill>
        <p:spPr>
          <a:xfrm>
            <a:off x="5148360" y="1557360"/>
            <a:ext cx="3163680" cy="4464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5651640" y="4869000"/>
            <a:ext cx="144360" cy="23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236000" y="6093000"/>
            <a:ext cx="215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958160" y="5373720"/>
            <a:ext cx="142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384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рневая система, состоящая из главного и боковых корней, называется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стержневой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рневая система, образованная только придаточными корнями, называется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мочковато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06:49:21Z</dcterms:created>
  <dc:creator>Ученик</dc:creator>
  <dc:description/>
  <dc:language>en-US</dc:language>
  <cp:lastModifiedBy>Ученик</cp:lastModifiedBy>
  <dcterms:modified xsi:type="dcterms:W3CDTF">2006-09-25T08:33:04Z</dcterms:modified>
  <cp:revision>9</cp:revision>
  <dc:subject/>
  <dc:title>Строение корня</dc:title>
</cp:coreProperties>
</file>